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27.png" ContentType="image/png"/>
  <Override PartName="/ppt/media/image2.png" ContentType="image/png"/>
  <Override PartName="/ppt/media/image4.jpeg" ContentType="image/jpeg"/>
  <Override PartName="/ppt/media/image25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572B-453C-4105-BA60-B0E244CE1292}" type="slidenum">
              <a:rPr b="0" lang="tr-T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945EB-D66B-44BF-BF40-604402C87D50}" type="slidenum">
              <a:rPr b="0" lang="tr-TR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DCB6B-4ECC-4274-981F-613FB2C1A001}" type="slidenum">
              <a:rPr b="0" lang="tr-TR" sz="12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A82A-C3A4-4CAB-9841-E610079057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2F15-2D60-4BD4-86D1-F0BEA0CE5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2754-18E5-421A-89EC-9881709BE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5689-0A0A-4EDB-B0AC-3A603EE12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E8857-AE1D-4E40-A4AA-84C5B1BDF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FFFE-84E5-4E38-B8D2-F669499C6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9234-106A-41B6-AB06-2B93CC361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6E9CD-E484-4F05-B706-176DAB42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CD1D0-6099-4CC9-BA7F-6C49C99E9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F16E5-19D4-4422-B817-1726B6695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81E5-58DA-46ED-8007-6A53CA288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3A0-5A4A-4B34-8922-3AAA2BFF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17EA7-EE94-4422-B6D9-89887BBE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D0C09-885B-4CE1-BF89-E72921C2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A9BA9-0844-48DF-B6CA-33FF26DBA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8313D-8A6B-4D3A-83C4-DAF1E7C22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325E-F34F-4AEE-AC93-712D4176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5E1B9-8929-4C38-B1AE-66D2243F9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5706A-DAA2-4623-B972-54A66CE54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A689-E6BC-4D5C-9683-E9B1CA77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1E21-1DF9-4A49-AEAA-2A323208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7F72-96E5-4270-9533-77D7BBFDA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E5CF-0595-46BC-83B7-AA3A3B45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ED417-AB43-4106-BCF3-8533923CE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Group 4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Line 5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" name="Line 6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" name="Line 7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6" name="Line 8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7" name="Line 9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8" name="Line 10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9" name="Line 11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" name="Line 12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" name="Line 13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" name="Line 14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" name="Line 15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" name="Line 16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" name="Line 17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6" name="Line 18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7" name="Line 19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8" name="Line 20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9" name="Line 21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0" name="Line 22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1" name="Line 23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2" name="Line 24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3" name="Line 25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4" name="Line 26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grpSp>
            <p:nvGrpSpPr>
              <p:cNvPr id="25" name="Group 27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7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8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29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0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1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2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3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4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5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6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7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8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39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0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1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2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3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4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5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6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7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8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49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0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1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2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3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54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55" name="Rectangle 57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sp>
          <p:nvSpPr>
            <p:cNvPr id="56" name="Line 58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ahoma"/>
              </a:endParaRPr>
            </a:p>
          </p:txBody>
        </p:sp>
        <p:grpSp>
          <p:nvGrpSpPr>
            <p:cNvPr id="57" name="Group 59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Line 60"/>
              <p:cNvSpPr/>
              <p:nvPr/>
            </p:nvSpPr>
            <p:spPr>
              <a:xfrm flipH="1">
                <a:off x="414360" y="151416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59" name="Line 61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60" name="Arc 62"/>
              <p:cNvSpPr/>
              <p:nvPr/>
            </p:nvSpPr>
            <p:spPr>
              <a:xfrm flipH="1">
                <a:off x="512640" y="1415880"/>
                <a:ext cx="192240" cy="19404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F51E-D11A-441C-9D44-25AD6E00EA2F}" type="slidenum">
              <a:rPr b="0" lang="tr-T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Group 3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Rectangle 4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grpSp>
            <p:nvGrpSpPr>
              <p:cNvPr id="105" name="Group 5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Line 6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7" name="Line 7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8" name="Line 8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09" name="Line 9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0" name="Line 10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1" name="Line 11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2" name="Line 12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3" name="Line 13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4" name="Line 14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5" name="Line 15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6" name="Line 16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7" name="Line 17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8" name="Line 18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19" name="Line 19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0" name="Line 20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1" name="Line 21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2" name="Line 22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3" name="Line 23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4" name="Line 24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5" name="Line 25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6" name="Line 26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7" name="Line 27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8" name="Line 28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29" name="Line 29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0" name="Line 30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1" name="Line 31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2" name="Line 32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3" name="Line 33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4" name="Line 34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5" name="Line 35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6" name="Line 36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7" name="Line 37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8" name="Line 38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39" name="Line 39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0" name="Line 40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1" name="Line 41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2" name="Line 42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3" name="Line 43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4" name="Line 44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5" name="Line 45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6" name="Line 46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7" name="Line 47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8" name="Line 48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49" name="Line 49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0" name="Line 50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1" name="Line 51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2" name="Line 52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3" name="Line 53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4" name="Line 54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5" name="Line 55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  <p:sp>
              <p:nvSpPr>
                <p:cNvPr id="156" name="Line 56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ahoma"/>
                  </a:endParaRPr>
                </a:p>
              </p:txBody>
            </p:sp>
          </p:grpSp>
          <p:sp>
            <p:nvSpPr>
              <p:cNvPr id="157" name="Line 57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58" name="Group 58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Line 59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0" name="Line 60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1" name="Line 61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2" name="Arc 62"/>
              <p:cNvSpPr/>
              <p:nvPr/>
            </p:nvSpPr>
            <p:spPr>
              <a:xfrm flipH="1" rot="16200000">
                <a:off x="675360" y="136620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  <p:grpSp>
          <p:nvGrpSpPr>
            <p:cNvPr id="163" name="Group 63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Line 64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5" name="Line 65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  <p:sp>
            <p:nvSpPr>
              <p:cNvPr id="166" name="Arc 66"/>
              <p:cNvSpPr/>
              <p:nvPr/>
            </p:nvSpPr>
            <p:spPr>
              <a:xfrm rot="5400000">
                <a:off x="8090640" y="5314320"/>
                <a:ext cx="247680" cy="249120"/>
              </a:xfrm>
              <a:prstGeom prst="pie">
                <a:avLst/>
              </a:prstGeom>
              <a:noFill/>
              <a:ln w="9360">
                <a:solidFill>
                  <a:srgbClr val="6f89f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0458c"/>
                  </a:solidFill>
                  <a:latin typeface="Tahoma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400" spc="-1" strike="noStrike">
                <a:solidFill>
                  <a:srgbClr val="40458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90B97-CD59-4694-B951-E812EC8265FC}" type="slidenum">
              <a:rPr b="0" lang="tr-TR" sz="1400" spc="-1" strike="noStrike">
                <a:solidFill>
                  <a:srgbClr val="40458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4.jpe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834920" y="3573000"/>
            <a:ext cx="6087960" cy="1481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660066"/>
                </a:solidFill>
                <a:latin typeface="Tahoma"/>
              </a:rPr>
              <a:t>Uygulamalı </a:t>
            </a:r>
            <a:br>
              <a:rPr sz="4000"/>
            </a:br>
            <a:r>
              <a:rPr b="1" lang="tr-TR" sz="4000" spc="-1" strike="noStrike">
                <a:solidFill>
                  <a:srgbClr val="660066"/>
                </a:solidFill>
                <a:latin typeface="Tahoma"/>
              </a:rPr>
              <a:t>GENEL MUHASEB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4 Dikdörtgen"/>
          <p:cNvSpPr/>
          <p:nvPr/>
        </p:nvSpPr>
        <p:spPr>
          <a:xfrm>
            <a:off x="428760" y="5572080"/>
            <a:ext cx="835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0404c8"/>
                </a:solidFill>
                <a:latin typeface="Tahoma"/>
              </a:rPr>
              <a:t>EK 3. ÇÖZÜMLÜ MONOGRAFİ  (</a:t>
            </a:r>
            <a:r>
              <a:rPr b="1" lang="tr-TR" sz="2400" spc="-1" strike="noStrike">
                <a:solidFill>
                  <a:srgbClr val="bf0d37"/>
                </a:solidFill>
                <a:latin typeface="Tahoma"/>
              </a:rPr>
              <a:t>7/A</a:t>
            </a:r>
            <a:r>
              <a:rPr b="1" lang="tr-TR" sz="2400" spc="-1" strike="noStrike">
                <a:solidFill>
                  <a:srgbClr val="0404c8"/>
                </a:solidFill>
                <a:latin typeface="Tahoma"/>
              </a:rPr>
              <a:t> ve 7/B Maliyet Muhasebesi  seçenekleri ile çözülmüş bir VAKA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17" name="Picture 4" descr="C:\Users\hp\Desktop\muhasebe-defteri.jpg"/>
          <p:cNvPicPr/>
          <p:nvPr/>
        </p:nvPicPr>
        <p:blipFill>
          <a:blip r:embed="rId1"/>
          <a:stretch/>
        </p:blipFill>
        <p:spPr>
          <a:xfrm>
            <a:off x="214200" y="154080"/>
            <a:ext cx="8429760" cy="28461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5" descr="K:\KİTAPLAR\Uygulamalı GENEL MUHASEBE\sunumlar VE METİN\dora 1. baskı\kapak\ön kapk.jpg"/>
          <p:cNvPicPr/>
          <p:nvPr/>
        </p:nvPicPr>
        <p:blipFill>
          <a:blip r:embed="rId2"/>
          <a:stretch/>
        </p:blipFill>
        <p:spPr>
          <a:xfrm>
            <a:off x="428760" y="3214800"/>
            <a:ext cx="185724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250920" y="1571400"/>
            <a:ext cx="864216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08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deposundaki giyim eşyalarının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maliyeti 10.000,-TL olan kısmını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alıcı “A” ya 35.400,-TL (KDV % 18)‘y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satmış,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karşılığında 20.000 TL tutarında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senet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ve kalan tutar için ise 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çek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almıştı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289A7-D77B-4EBE-833B-715F35D8CF89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3" name="Picture 2" descr=""/>
          <p:cNvPicPr/>
          <p:nvPr/>
        </p:nvPicPr>
        <p:blipFill>
          <a:blip r:embed="rId3"/>
          <a:stretch/>
        </p:blipFill>
        <p:spPr>
          <a:xfrm>
            <a:off x="214200" y="2928960"/>
            <a:ext cx="8715600" cy="39290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0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satış mağazasına doğalgaz sayacı taktırmış ve depozito bedeli olan 500,-TL için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4.12.201.. tarihinde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gerçekleşmek üzere “B”Bankasına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EFT talimatı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(ödeme emri) vermişti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D006-6059-4298-BDBD-A05A1E289070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57" name="Picture 2" descr=""/>
          <p:cNvPicPr/>
          <p:nvPr/>
        </p:nvPicPr>
        <p:blipFill>
          <a:blip r:embed="rId3"/>
          <a:stretch/>
        </p:blipFill>
        <p:spPr>
          <a:xfrm>
            <a:off x="285840" y="3043080"/>
            <a:ext cx="8572320" cy="2957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2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yönetim bölümünde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kullandığı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elektirik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bedeli olarak 1.180,-TL (KDV % 18) v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pazarlama bölümüne </a:t>
            </a:r>
            <a:r>
              <a:rPr b="0" lang="tr-TR" sz="2000" spc="-1" strike="noStrike">
                <a:solidFill>
                  <a:srgbClr val="40458c"/>
                </a:solidFill>
                <a:latin typeface="Tahoma"/>
              </a:rPr>
              <a:t>ait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haberleşme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bedeli olarak 590,-TL (KDV % 18)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peşin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ödemişti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8B590-D824-441F-AEBF-2D8B544D2670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1" name="Picture 3" descr=""/>
          <p:cNvPicPr/>
          <p:nvPr/>
        </p:nvPicPr>
        <p:blipFill>
          <a:blip r:embed="rId3"/>
          <a:stretch/>
        </p:blipFill>
        <p:spPr>
          <a:xfrm>
            <a:off x="285840" y="2857680"/>
            <a:ext cx="8858160" cy="32860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4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nin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2.12.201. tarihinde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verdiği EFT talimatının gerçekleşmiş olduğu İnternet Bankacılığı üzerinden alınan dekonttan anlaşılmaktadı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FC7D9-4CFA-47DA-9623-6A92FAA3DBED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5" name="Picture 2" descr=""/>
          <p:cNvPicPr/>
          <p:nvPr/>
        </p:nvPicPr>
        <p:blipFill>
          <a:blip r:embed="rId3"/>
          <a:stretch/>
        </p:blipFill>
        <p:spPr>
          <a:xfrm>
            <a:off x="500040" y="3043080"/>
            <a:ext cx="8358120" cy="267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20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Belediye’y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yönetim binasının emlak vergisi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için 400,-TL ödemişti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7D8D4-E2E6-44DF-A18B-AC3D12C25F7C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69" name="Picture 2" descr=""/>
          <p:cNvPicPr/>
          <p:nvPr/>
        </p:nvPicPr>
        <p:blipFill>
          <a:blip r:embed="rId3"/>
          <a:stretch/>
        </p:blipFill>
        <p:spPr>
          <a:xfrm>
            <a:off x="500040" y="3143160"/>
            <a:ext cx="8215200" cy="2500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25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yönetim bölümünde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kullandığı taşıtlarını Kantekin Sigorta şirketin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25.12.201.. tarihinden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itibaren geçerli olmak üzer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15 günlüğüne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toplam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 75,-TL bedel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karşılığı düzenlenen sigorta poliçesi ile sigortalatmıştır. Sigorta bedeli,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sigorta süresinin sonunda ödenecekti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099D3-4152-48D9-9BB0-B0B9576BE553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Picture 2" descr=""/>
          <p:cNvPicPr/>
          <p:nvPr/>
        </p:nvPicPr>
        <p:blipFill>
          <a:blip r:embed="rId3"/>
          <a:stretch/>
        </p:blipFill>
        <p:spPr>
          <a:xfrm>
            <a:off x="214200" y="3429000"/>
            <a:ext cx="8724960" cy="29862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27.12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: İşletm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vergi mükellefi olmayan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birkaç kişi bulmuş v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ar-ge bölümünü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500,-TL karşılığında  temizletmiş, boya ve badanasını yaptırmıştır. İşletme düzenlediği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Gider Makbuzu (Pusulası)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üzerinde hizmet bedelinden 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%10 Gelir Vergisi kesintisi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(stopaj)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yaptıktan sonra kalan tutarı elemanlara ödemişti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5188-5AC3-4389-A516-574D56566F23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7" name="Picture 2" descr=""/>
          <p:cNvPicPr/>
          <p:nvPr/>
        </p:nvPicPr>
        <p:blipFill>
          <a:blip r:embed="rId3"/>
          <a:stretch/>
        </p:blipFill>
        <p:spPr>
          <a:xfrm>
            <a:off x="380880" y="3429000"/>
            <a:ext cx="876312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31.12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KDV hesaplarının mahsubu yapılmıştı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561DD-3A51-47D2-809C-5A2F5654D6E3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3"/>
          <a:stretch/>
        </p:blipFill>
        <p:spPr>
          <a:xfrm>
            <a:off x="181080" y="2728800"/>
            <a:ext cx="8781840" cy="33433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A43E2-3AC1-4815-8D99-72A9A290FB4F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5" name="Picture 2" descr=""/>
          <p:cNvPicPr/>
          <p:nvPr/>
        </p:nvPicPr>
        <p:blipFill>
          <a:blip r:embed="rId2"/>
          <a:stretch/>
        </p:blipFill>
        <p:spPr>
          <a:xfrm>
            <a:off x="214200" y="214200"/>
            <a:ext cx="8572680" cy="6429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Maddi Duran Varlıklar için amortisman yöntemi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azalan bakiyeler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olup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ekonomik ömürleri 8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yıldır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6A3D6-A211-471A-B2F0-965CB8066A2D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3"/>
          <a:stretch/>
        </p:blipFill>
        <p:spPr>
          <a:xfrm>
            <a:off x="399960" y="2928960"/>
            <a:ext cx="8744040" cy="3538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r-TR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ff0000"/>
                </a:solidFill>
                <a:uFillTx/>
                <a:latin typeface="Tahoma"/>
              </a:rPr>
              <a:t>7/A</a:t>
            </a:r>
            <a:r>
              <a:rPr b="1" lang="tr-TR" sz="4000" spc="-1" strike="noStrike" u="sng">
                <a:solidFill>
                  <a:srgbClr val="00b0f0"/>
                </a:solidFill>
                <a:uFillTx/>
                <a:latin typeface="Tahoma"/>
              </a:rPr>
              <a:t> MALİYET MUHASEBESİ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 algn="ctr">
              <a:spcBef>
                <a:spcPts val="10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1" lang="tr-TR" sz="4000" spc="-1" strike="noStrike">
                <a:solidFill>
                  <a:srgbClr val="00b0f0"/>
                </a:solidFill>
                <a:latin typeface="Tahoma"/>
              </a:rPr>
              <a:t>SEÇENEĞİNE uygun ÇÖZÜM</a:t>
            </a:r>
            <a:endParaRPr b="0" lang="en-US" sz="4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96D55-E3D2-4B05-834D-0477B94EB959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2" name="Picture 5" descr="K:\KİTAPLAR\Uygulamalı GENEL MUHASEBE\sunumlar VE METİN\dora 1. baskı\kapak\ön kapk.jpg"/>
          <p:cNvPicPr/>
          <p:nvPr/>
        </p:nvPicPr>
        <p:blipFill>
          <a:blip r:embed="rId1"/>
          <a:stretch/>
        </p:blipFill>
        <p:spPr>
          <a:xfrm>
            <a:off x="714240" y="357120"/>
            <a:ext cx="185760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0241-1414-466F-BE18-9EBF7BEE2F55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Picture 5" descr=""/>
          <p:cNvPicPr/>
          <p:nvPr/>
        </p:nvPicPr>
        <p:blipFill>
          <a:blip r:embed="rId2"/>
          <a:stretch/>
        </p:blipFill>
        <p:spPr>
          <a:xfrm>
            <a:off x="209520" y="2938320"/>
            <a:ext cx="8724960" cy="2347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1F0D-9F75-4368-B3E1-2F10BDFE289A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7" name="Picture 5" descr=""/>
          <p:cNvPicPr/>
          <p:nvPr/>
        </p:nvPicPr>
        <p:blipFill>
          <a:blip r:embed="rId2"/>
          <a:stretch/>
        </p:blipFill>
        <p:spPr>
          <a:xfrm>
            <a:off x="428760" y="1571760"/>
            <a:ext cx="7943760" cy="3571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DA57C-5755-4474-B1C1-ED450DA474E9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1" name="Picture 6" descr=""/>
          <p:cNvPicPr/>
          <p:nvPr/>
        </p:nvPicPr>
        <p:blipFill>
          <a:blip r:embed="rId2"/>
          <a:stretch/>
        </p:blipFill>
        <p:spPr>
          <a:xfrm>
            <a:off x="681120" y="1785960"/>
            <a:ext cx="7781760" cy="42148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70836-1E04-4EB2-8BEB-4132B4C918F0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5" name="Picture 5" descr=""/>
          <p:cNvPicPr/>
          <p:nvPr/>
        </p:nvPicPr>
        <p:blipFill>
          <a:blip r:embed="rId2"/>
          <a:stretch/>
        </p:blipFill>
        <p:spPr>
          <a:xfrm>
            <a:off x="214200" y="1643040"/>
            <a:ext cx="8572680" cy="4714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94C02-3A75-4B34-9EF9-716D34E29C82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09" name="Picture 5" descr=""/>
          <p:cNvPicPr/>
          <p:nvPr/>
        </p:nvPicPr>
        <p:blipFill>
          <a:blip r:embed="rId2"/>
          <a:stretch/>
        </p:blipFill>
        <p:spPr>
          <a:xfrm>
            <a:off x="214200" y="1571760"/>
            <a:ext cx="8643960" cy="4572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67EA7-5525-489F-A4D7-7D5C7795B788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3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4177C-04B2-4D9B-A333-803A9FE0D598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17" name="Picture 5" descr=""/>
          <p:cNvPicPr/>
          <p:nvPr/>
        </p:nvPicPr>
        <p:blipFill>
          <a:blip r:embed="rId2"/>
          <a:stretch/>
        </p:blipFill>
        <p:spPr>
          <a:xfrm>
            <a:off x="214200" y="120600"/>
            <a:ext cx="8715600" cy="66438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40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DB488-8F09-4C6D-8840-1D3A6D78FE06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1" name="Picture 6" descr=""/>
          <p:cNvPicPr/>
          <p:nvPr/>
        </p:nvPicPr>
        <p:blipFill>
          <a:blip r:embed="rId2"/>
          <a:stretch/>
        </p:blipFill>
        <p:spPr>
          <a:xfrm>
            <a:off x="223920" y="928800"/>
            <a:ext cx="8696160" cy="55004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034480" cy="552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40458c"/>
                </a:solidFill>
                <a:latin typeface="Tahoma"/>
              </a:rPr>
              <a:t>Dönemsonu İşlemleri: (31.12.201..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5913-1AB2-48E0-9DC1-43538627ADFA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5" name="Picture 5" descr=""/>
          <p:cNvPicPr/>
          <p:nvPr/>
        </p:nvPicPr>
        <p:blipFill>
          <a:blip r:embed="rId2"/>
          <a:stretch/>
        </p:blipFill>
        <p:spPr>
          <a:xfrm>
            <a:off x="214200" y="1000080"/>
            <a:ext cx="8572680" cy="5643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714240" y="0"/>
            <a:ext cx="8429760" cy="157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bf0d37"/>
                </a:solidFill>
                <a:latin typeface="Tahoma"/>
              </a:rPr>
              <a:t>KİTAP EKİNDE: 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28400" y="1643040"/>
            <a:ext cx="84294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04c8"/>
                </a:solidFill>
                <a:latin typeface="Tahoma"/>
              </a:rPr>
              <a:t>GENEL TEST SORULARI VE CEVAPLAR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04c8"/>
                </a:solidFill>
                <a:latin typeface="Tahoma"/>
              </a:rPr>
              <a:t>GENEL ARAŞTIRMA VE UYGULAMA SORULAR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04c8"/>
                </a:solidFill>
                <a:latin typeface="Tahoma"/>
              </a:rPr>
              <a:t>ÇÖZÜMLÜ MONOGRAFİ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04c8"/>
                </a:solidFill>
                <a:latin typeface="Tahoma"/>
              </a:rPr>
              <a:t>MONOGRAFİ ÇÖZÜM KAĞID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0404c8"/>
                </a:solidFill>
                <a:latin typeface="Tahoma"/>
              </a:rPr>
              <a:t>TEKDÜZEN HESAP PLAN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bf0d37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28" name="3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B50A-8E2F-41DD-B227-FDB20179E78B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29" name="Picture 5" descr="K:\KİTAPLAR\Uygulamalı GENEL MUHASEBE\sunumlar VE METİN\dora 1. baskı\kapak\ön kapk.jpg"/>
          <p:cNvPicPr/>
          <p:nvPr/>
        </p:nvPicPr>
        <p:blipFill>
          <a:blip r:embed="rId9"/>
          <a:stretch/>
        </p:blipFill>
        <p:spPr>
          <a:xfrm>
            <a:off x="785880" y="357120"/>
            <a:ext cx="1857240" cy="2214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660066"/>
                </a:solidFill>
                <a:latin typeface="Tahoma"/>
              </a:rPr>
              <a:t>Ümit ERDEM ve Ortakları Kollektif Şirketi (Şahıs şirketi)</a:t>
            </a:r>
            <a:r>
              <a:rPr b="0" i="1" lang="tr-TR" sz="2000" spc="-1" strike="noStrike">
                <a:solidFill>
                  <a:srgbClr val="660066"/>
                </a:solidFill>
                <a:latin typeface="Tahoma"/>
              </a:rPr>
              <a:t>  </a:t>
            </a:r>
            <a:r>
              <a:rPr b="1" i="1" lang="tr-TR" sz="2000" spc="-1" strike="noStrike">
                <a:solidFill>
                  <a:srgbClr val="660066"/>
                </a:solidFill>
                <a:latin typeface="Tahoma"/>
              </a:rPr>
              <a:t>giyim eşyası </a:t>
            </a:r>
            <a:r>
              <a:rPr b="0" i="1" lang="tr-TR" sz="2000" spc="-1" strike="noStrike">
                <a:solidFill>
                  <a:srgbClr val="660066"/>
                </a:solidFill>
                <a:latin typeface="Tahoma"/>
              </a:rPr>
              <a:t>alım satımı ile uğraşmak üzere 01.12.201.. tarihinde aşağıdaki </a:t>
            </a:r>
            <a:r>
              <a:rPr b="1" i="1" lang="tr-TR" sz="2000" spc="-1" strike="noStrike">
                <a:solidFill>
                  <a:srgbClr val="660066"/>
                </a:solidFill>
                <a:latin typeface="Tahoma"/>
              </a:rPr>
              <a:t>varlık ve borçlarla işe başlamıştır. 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1743-DE3E-4716-8489-7992B1DEBBC8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26" name="Picture 2" descr=""/>
          <p:cNvPicPr/>
          <p:nvPr/>
        </p:nvPicPr>
        <p:blipFill>
          <a:blip r:embed="rId9"/>
          <a:stretch/>
        </p:blipFill>
        <p:spPr>
          <a:xfrm>
            <a:off x="214200" y="1857240"/>
            <a:ext cx="8929800" cy="4000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5 Slayt Numarası Yer Tutucusu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58F3B-8792-47C4-923A-5506288566C2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lnSpc>
                <a:spcPct val="90000"/>
              </a:lnSpc>
              <a:spcBef>
                <a:spcPts val="3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7200" spc="-1" strike="noStrike">
                <a:solidFill>
                  <a:srgbClr val="c40830"/>
                </a:solidFill>
                <a:latin typeface="Monotype Corsiva"/>
              </a:rPr>
              <a:t>İlginiz için</a:t>
            </a:r>
            <a:r>
              <a:rPr b="1" lang="tr-TR" sz="12800" spc="-1" strike="noStrike">
                <a:solidFill>
                  <a:srgbClr val="c40830"/>
                </a:solidFill>
                <a:latin typeface="Monotype Corsiva"/>
              </a:rPr>
              <a:t>  </a:t>
            </a:r>
            <a:endParaRPr b="0" lang="en-US" sz="1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2800" spc="-1" strike="noStrike">
                <a:solidFill>
                  <a:srgbClr val="c40830"/>
                </a:solidFill>
                <a:latin typeface="Monotype Corsiva"/>
              </a:rPr>
              <a:t>T</a:t>
            </a:r>
            <a:r>
              <a:rPr b="1" lang="tr-TR" sz="7200" spc="-1" strike="noStrike">
                <a:solidFill>
                  <a:srgbClr val="c40830"/>
                </a:solidFill>
                <a:latin typeface="Monotype Corsiva"/>
              </a:rPr>
              <a:t>eşekkürler…</a:t>
            </a:r>
            <a:endParaRPr b="0" lang="en-US" sz="7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33" name="Rectangle 2"/>
          <p:cNvSpPr/>
          <p:nvPr/>
        </p:nvSpPr>
        <p:spPr>
          <a:xfrm>
            <a:off x="428760" y="1571760"/>
            <a:ext cx="792936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b0f0"/>
                </a:solidFill>
                <a:latin typeface="Tahoma"/>
              </a:rPr>
              <a:t>EK 3. ÇÖZÜMLÜ MONOGRAFİ</a:t>
            </a:r>
            <a:r>
              <a:rPr b="1" lang="tr-TR" sz="3600" spc="-1" strike="noStrike">
                <a:solidFill>
                  <a:srgbClr val="ff0000"/>
                </a:solidFill>
                <a:latin typeface="Tahoma"/>
              </a:rPr>
              <a:t>-7/A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4" name="Picture 6" descr="K:\KİTAPLAR\Uygulamalı GENEL MUHASEBE\sunumlar VE METİN\dora 1. baskı\kapak\ön kapk.jpg"/>
          <p:cNvPicPr/>
          <p:nvPr/>
        </p:nvPicPr>
        <p:blipFill>
          <a:blip r:embed="rId1"/>
          <a:stretch/>
        </p:blipFill>
        <p:spPr>
          <a:xfrm>
            <a:off x="214200" y="2714760"/>
            <a:ext cx="185760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45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45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2356920" y="3786120"/>
            <a:ext cx="6116760" cy="1481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800" spc="-1" strike="noStrike">
                <a:solidFill>
                  <a:srgbClr val="660066"/>
                </a:solidFill>
                <a:latin typeface="Tahoma"/>
              </a:rPr>
              <a:t>Uygulamalı </a:t>
            </a:r>
            <a:br>
              <a:rPr sz="4800"/>
            </a:br>
            <a:r>
              <a:rPr b="1" lang="tr-TR" sz="4800" spc="-1" strike="noStrike">
                <a:solidFill>
                  <a:srgbClr val="660066"/>
                </a:solidFill>
                <a:latin typeface="Tahoma"/>
              </a:rPr>
              <a:t>GENEL MUHASEBE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6" name="Rectangle 2"/>
          <p:cNvSpPr/>
          <p:nvPr/>
        </p:nvSpPr>
        <p:spPr>
          <a:xfrm>
            <a:off x="500040" y="5429160"/>
            <a:ext cx="807264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>
                <a:solidFill>
                  <a:srgbClr val="00b0f0"/>
                </a:solidFill>
                <a:latin typeface="Tahoma"/>
              </a:rPr>
              <a:t>EK 3. ÇÖZÜMLÜ MONOGRAFİ-7/A </a:t>
            </a:r>
            <a:endParaRPr b="0" lang="en-US" sz="36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337" name="Picture 4" descr="C:\Users\hp\Desktop\muhasebe-defteri.jpg"/>
          <p:cNvPicPr/>
          <p:nvPr/>
        </p:nvPicPr>
        <p:blipFill>
          <a:blip r:embed="rId1"/>
          <a:stretch/>
        </p:blipFill>
        <p:spPr>
          <a:xfrm>
            <a:off x="214200" y="154080"/>
            <a:ext cx="8429760" cy="284616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5" descr="K:\KİTAPLAR\Uygulamalı GENEL MUHASEBE\sunumlar VE METİN\dora 1. baskı\kapak\ön kapk.jpg"/>
          <p:cNvPicPr/>
          <p:nvPr/>
        </p:nvPicPr>
        <p:blipFill>
          <a:blip r:embed="rId2"/>
          <a:stretch/>
        </p:blipFill>
        <p:spPr>
          <a:xfrm>
            <a:off x="357120" y="3214800"/>
            <a:ext cx="1857600" cy="22143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57120" y="304920"/>
            <a:ext cx="8501040" cy="1195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 u="sng">
                <a:solidFill>
                  <a:srgbClr val="660066"/>
                </a:solidFill>
                <a:uFillTx/>
                <a:latin typeface="Tahoma"/>
              </a:rPr>
              <a:t>İSTENENLER</a:t>
            </a:r>
            <a:r>
              <a:rPr b="0" lang="tr-TR" sz="2000" spc="-1" strike="noStrike">
                <a:solidFill>
                  <a:srgbClr val="660066"/>
                </a:solidFill>
                <a:latin typeface="Tahoma"/>
              </a:rPr>
              <a:t>  :</a:t>
            </a:r>
            <a:br>
              <a:rPr sz="2000"/>
            </a:br>
            <a:r>
              <a:rPr b="0" lang="tr-TR" sz="2000" spc="-1" strike="noStrike">
                <a:solidFill>
                  <a:srgbClr val="660066"/>
                </a:solidFill>
                <a:latin typeface="Tahoma"/>
              </a:rPr>
              <a:t> </a:t>
            </a:r>
            <a:br>
              <a:rPr sz="2000"/>
            </a:br>
            <a:r>
              <a:rPr b="1" i="1" lang="tr-TR" sz="2000" spc="-1" strike="noStrike" u="sng">
                <a:solidFill>
                  <a:srgbClr val="660066"/>
                </a:solidFill>
                <a:uFillTx/>
                <a:latin typeface="Tahoma"/>
              </a:rPr>
              <a:t>MONOGRAFİ ÇÖZÜM KAĞIDI</a:t>
            </a:r>
            <a:r>
              <a:rPr b="0" lang="tr-TR" sz="2000" spc="-1" strike="noStrike" u="sng">
                <a:solidFill>
                  <a:srgbClr val="660066"/>
                </a:solidFill>
                <a:uFillTx/>
                <a:latin typeface="Tahoma"/>
              </a:rPr>
              <a:t> </a:t>
            </a:r>
            <a:r>
              <a:rPr b="1" lang="tr-TR" sz="2000" spc="-1" strike="noStrike">
                <a:solidFill>
                  <a:srgbClr val="660066"/>
                </a:solidFill>
                <a:latin typeface="Tahoma"/>
              </a:rPr>
              <a:t>üzerinde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Kuruluş bilânçosunu düzenleyiniz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Açılış, günlük ve dönemsonu işlemlerini yevmiye defterine (günlük defter) işleyiniz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Açılış, günlük ve dönemsonu işlemlerini defter-i kebire (büyük defter) işleyiniz.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Genel Geçici Sağlamayı ve Kesin Sağlamayı düzenleyiniz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ff0000"/>
              </a:buClr>
              <a:buSzPct val="11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tr-TR" sz="2000" spc="-1" strike="noStrike">
                <a:solidFill>
                  <a:srgbClr val="40458c"/>
                </a:solidFill>
                <a:latin typeface="Tahoma"/>
              </a:rPr>
              <a:t>Gelir Tablosunu ve  kapanış Bilançosunu düzenleyiniz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A1092-C645-4301-AAE0-6DE69B352D2D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341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660066"/>
                </a:solidFill>
                <a:latin typeface="Tahoma"/>
              </a:rPr>
              <a:t>Çözüm: a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4E859-B113-401A-9AC2-BE1540F8B502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33" name="Picture 6" descr=""/>
          <p:cNvPicPr/>
          <p:nvPr/>
        </p:nvPicPr>
        <p:blipFill>
          <a:blip r:embed="rId2"/>
          <a:stretch/>
        </p:blipFill>
        <p:spPr>
          <a:xfrm>
            <a:off x="214200" y="642960"/>
            <a:ext cx="8572680" cy="58579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D416D-466E-4508-A862-EF5CE1943AE9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34120" cy="480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660066"/>
                </a:solidFill>
                <a:latin typeface="Tahoma"/>
              </a:rPr>
              <a:t>Çözüm: b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37" name="Picture 2" descr=""/>
          <p:cNvPicPr/>
          <p:nvPr/>
        </p:nvPicPr>
        <p:blipFill>
          <a:blip r:embed="rId2"/>
          <a:stretch/>
        </p:blipFill>
        <p:spPr>
          <a:xfrm>
            <a:off x="214200" y="714240"/>
            <a:ext cx="8715600" cy="5715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01.12.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4 aylığına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Güven Rent a car firmasından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yönetim hizmetlerinde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kullanılmak üzere 2.832,-TL (KDV % 18) bedell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araç kiralamış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, kira bedeli ise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peşin ödenmiştir.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0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63DA1-F990-4136-A3F0-A398E05D042C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1" name="Picture 2" descr=""/>
          <p:cNvPicPr/>
          <p:nvPr/>
        </p:nvPicPr>
        <p:blipFill>
          <a:blip r:embed="rId3"/>
          <a:stretch/>
        </p:blipFill>
        <p:spPr>
          <a:xfrm>
            <a:off x="214200" y="3071880"/>
            <a:ext cx="8572680" cy="3352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250920" y="1700280"/>
            <a:ext cx="864216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03.12.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 ortaklarından Bay M’nin 4.000,-TL tutarındaki  banka kredi borcu için A Bankasına nakit ödeme yapmıştır. 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52032-A2D6-4BBC-944B-5AD6323DD457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5" name="Picture 3" descr=""/>
          <p:cNvPicPr/>
          <p:nvPr/>
        </p:nvPicPr>
        <p:blipFill>
          <a:blip r:embed="rId3"/>
          <a:stretch/>
        </p:blipFill>
        <p:spPr>
          <a:xfrm>
            <a:off x="285840" y="3005280"/>
            <a:ext cx="8643960" cy="27097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034480" cy="98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400" spc="-1" strike="noStrike">
                <a:solidFill>
                  <a:srgbClr val="660066"/>
                </a:solidFill>
                <a:latin typeface="Tahoma"/>
              </a:rPr>
              <a:t>Aralık 201.. Dönemi Günlük İşlemleri:</a:t>
            </a:r>
            <a:br>
              <a:rPr sz="2400"/>
            </a:b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250920" y="1571400"/>
            <a:ext cx="8642160" cy="502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05.12. : 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İşletmenin bankadaki mevduatına 3.000,- TL faiz tahakkuk (işlemiş) etmiş ve banka bu tutardan vergi sorumluluğu gereği </a:t>
            </a:r>
            <a:r>
              <a:rPr b="1" i="1" lang="tr-TR" sz="2000" spc="-1" strike="noStrike">
                <a:solidFill>
                  <a:srgbClr val="40458c"/>
                </a:solidFill>
                <a:latin typeface="Tahoma"/>
              </a:rPr>
              <a:t>%15 Gelir Vergisi kesintisi</a:t>
            </a:r>
            <a:r>
              <a:rPr b="0" i="1" lang="tr-TR" sz="2000" spc="-1" strike="noStrike">
                <a:solidFill>
                  <a:srgbClr val="40458c"/>
                </a:solidFill>
                <a:latin typeface="Tahoma"/>
              </a:rPr>
              <a:t> yaptıktan sonra kalanı işletmenin hesabına yatırmıştır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7B62F-619F-47B4-888A-58D28A2DC4B1}" type="slidenum">
              <a:rPr b="0" lang="tr-TR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3"/>
          <a:stretch/>
        </p:blipFill>
        <p:spPr>
          <a:xfrm>
            <a:off x="357120" y="3143160"/>
            <a:ext cx="8429760" cy="314352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6T16:09:44Z</dcterms:created>
  <dc:creator>Fatih</dc:creator>
  <dc:description/>
  <dc:language>en-US</dc:language>
  <cp:lastModifiedBy>hp</cp:lastModifiedBy>
  <dcterms:modified xsi:type="dcterms:W3CDTF">2015-09-08T23:55:16Z</dcterms:modified>
  <cp:revision>593</cp:revision>
  <dc:subject/>
  <dc:title>NEW YORK BORSASI VE NASDAQ’TA LİSTEYE ALINMA VE İŞLEM GÖRME KOŞULLARI </dc:title>
</cp:coreProperties>
</file>